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4ED-2B33-4D89-A35A-E4B162D9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D64-E399-43D2-ACD0-20B9E94D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641-DC16-4FED-8B5F-2084FA74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457-DDF9-40B8-AC05-6AA3C38B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F33-741F-4788-ABCA-1DE2D8AA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9AA-C36D-459E-9EB1-520EF82B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AEA-E919-446C-AAF1-F6654F12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134-C7DE-4DAC-9395-1AB12769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422-4537-4DB9-A2D0-77220214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8A0-447A-4E33-8741-951FBFD2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782-0787-4878-A2DA-C043EC7E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4E5-F0F2-4421-86D7-29CE9054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12B9-B93B-4D72-B41C-FEB8E2693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ИОКОМПАТИПИЛНОСТ СТОМАТОЛОШКИХ МАТЕРИЈ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apoptos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Zubna hromozomi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ергијски контактни дерма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ергија на лат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ергијски контактни стома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пш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хтеви за све материјале који се уграђују у људско тело, па и стоматолошке материјале, су да ове материје бу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токсич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иритант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канцерог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антигенич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 ових општих постоје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пецифуч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хтевиза сваку групу материјала зависно од њихове намене и дужине контакта са тки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 област је регулисана националним и међународним стандардима што значи да материјал који се користи или ће се користити мора имати ознаку стандарда који гарантује квалитет и безбедност примене што обезбеђије правну сигурност лекарима а пацијентима здравствену безбед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ас ову област регулише документ под нази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Преклиничка евалуација биокомпатибилности медицинских средстава коришћених у стоматологији – методе тестирања денталних матер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и стоматолошки материјал је биокомпатибилан кад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..је нешкодљив за ткиво пулпе и мека ткива зу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..не ослобађа солубилне токсине способне да продру у системски крв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..није алер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..није канцеро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стови за евалуацију биокомпатибил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2742840"/>
            <a:ext cx="8534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стов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vitro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то су испитивања на ћелијским линијама, бактеријама и гљив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стов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то су испитивања на експерименталним животињама и добровољ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стови за евалуацију биокомпатибил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и тестови - тестови цитотоксичнос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арни тестови - тестови којима се испитује системска токсичност, иритабилност и антигеничнос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ситним животињ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и тестови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питивања на приматима и добровољ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ергијске манифестације на стоматолошке материј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ергијски контактни дерма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ергија на лат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ергијски контактни стома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Reparativni dentin"/>
          <p:cNvPicPr/>
          <p:nvPr/>
        </p:nvPicPr>
        <p:blipFill>
          <a:blip r:embed="rId1"/>
          <a:stretch/>
        </p:blipFill>
        <p:spPr>
          <a:xfrm>
            <a:off x="457200" y="2246400"/>
            <a:ext cx="822960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07:05:43Z</dcterms:created>
  <dc:creator>Nebojsa Arsenijevic</dc:creator>
  <dc:description/>
  <dc:language>en-US</dc:language>
  <cp:lastModifiedBy>Gordana Radic</cp:lastModifiedBy>
  <dcterms:modified xsi:type="dcterms:W3CDTF">2016-01-27T10:40:06Z</dcterms:modified>
  <cp:revision>14</cp:revision>
  <dc:subject/>
  <dc:title>БИОКОМПАТИПИЛНОСТ СТОМАТОЛОШКИХ МАТЕРИЈАЛА</dc:title>
</cp:coreProperties>
</file>